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11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AutoShape 1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AutoShape 2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AutoShape 3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AutoShape 4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AutoShape 5"/>
          <p:cNvSpPr/>
          <p:nvPr/>
        </p:nvSpPr>
        <p:spPr>
          <a:xfrm>
            <a:off x="0" y="0"/>
            <a:ext cx="6796080" cy="987408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874080"/>
              <a:gd name="textAreaBottom" fmla="*/ 9873720 h 9874080"/>
            </a:gdLst>
            <a:ahLst/>
            <a:rect l="textAreaLeft" t="textAreaTop" r="textAreaRight" b="textAreaBottom"/>
            <a:pathLst>
              <a:path w="21600" h="31382">
                <a:moveTo>
                  <a:pt x="5" y="0"/>
                </a:moveTo>
                <a:arcTo wR="5" hR="5" stAng="16200000" swAng="-5400000"/>
                <a:lnTo>
                  <a:pt x="0" y="31377"/>
                </a:lnTo>
                <a:arcTo wR="5" hR="5" stAng="10800000" swAng="-5400000"/>
                <a:lnTo>
                  <a:pt x="21595" y="31382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3849840" y="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0920" cy="369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096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10"/>
          <p:cNvSpPr/>
          <p:nvPr/>
        </p:nvSpPr>
        <p:spPr>
          <a:xfrm>
            <a:off x="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3"/>
          </p:nvPr>
        </p:nvSpPr>
        <p:spPr>
          <a:xfrm>
            <a:off x="3849840" y="9378720"/>
            <a:ext cx="29383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09C02-2B49-4F3E-A4AB-9B16619EC01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1"/>
          <p:cNvSpPr/>
          <p:nvPr/>
        </p:nvSpPr>
        <p:spPr>
          <a:xfrm>
            <a:off x="3849840" y="9379080"/>
            <a:ext cx="29383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EE7C41-D469-44EB-A299-D074B878A55C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379" name="Text Box 2"/>
          <p:cNvSpPr/>
          <p:nvPr/>
        </p:nvSpPr>
        <p:spPr>
          <a:xfrm>
            <a:off x="679320" y="4689360"/>
            <a:ext cx="5438880" cy="44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7FD291-98B7-49C1-8E5F-C97C910AC0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08E3E7-6576-4695-8531-E0C1CEB71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B87C8-D824-4D29-9D04-E6A8342E0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5A4C5-ABD2-4B97-A088-6975E3F4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ACC34-90CC-47CC-B48A-4B006E421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5C043E-0CE6-45A7-93D2-FED48B712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0971FC-E547-4041-926D-485AD17D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1B0CE-4512-47F6-8DE3-A6BE97A7C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4A4DA-3D92-4702-8806-C316A9B0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749CF2-A635-4FE8-AD9D-EF8BD60F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084B7-0763-45AC-8A39-F87EF78B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E7FB7-C377-4383-BE40-4BE5DECB27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3226B-BB04-4339-96BA-C4C91CC3F3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2124-E0E3-4B93-85D8-CAFA92DD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0328-91C2-43A2-A0B7-B9703AE90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2A08-3F0A-4010-90DB-B0985000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4D432-6FDA-4A80-BDF1-0B74D34E8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1A6FA-0FD2-4A1C-87DE-A2D1030D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2BC2-AB6F-4979-AB7A-230EB7C10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B8A1E-8C05-44FB-BD1A-2EF19F8D2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F5F63-304A-47B3-A896-1CCB23FE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C6B0-3082-4D4D-9032-B43D4418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12BCD-EC40-4FA3-99EA-7A47E563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2EE9-C6A5-4A17-B59F-DE9134A739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E824FF-5F32-480C-9498-FBC054C8CF0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F30895-C7C2-4B50-AB65-633EA5B59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1F7B1D-3F85-44D8-9E83-3B53CF182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DBA582-90B5-4E42-8FF2-359B8E31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E7C60E-31C8-48B1-9551-3970C544E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6EA622-A540-404E-A35C-0C5E171E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5CF09-12A6-4983-B409-2BCB9649F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747B0-6BBC-47A4-BFFF-251043AA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FD12BF-59A2-48D4-915F-7C3567F4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E1656F-A00D-44E1-9656-AFC470BE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AD6C39-9029-4B93-B73C-0039B1234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92CD5B-81DE-4D76-8C1A-FBFFABFACF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1CCFEB-8AFD-4FBB-B333-D3709ABEE3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7DF18C-F35B-44DE-B55F-67A232B31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FDCCE6-F8BC-4032-9972-61567C78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A4FF8E-AA90-47AF-8ECC-83CE166EA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A74E5C-475C-4C2F-B642-EE9F07A3C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D43A75-69BB-48DC-B70D-0E9A5E932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D749B4-3790-4F58-8B13-91E8DE4D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4557EC-2BCB-45ED-AE3C-E0B82D1C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743E14-264B-41E1-B439-50862A54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44473F-59DC-493C-9B5F-4E98BAECD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101C2C-A56C-4310-AE27-64526CD3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88BFCC-39CE-4E01-AC34-7F95D99B1F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E72F3-0BA4-4D78-8F0D-3152009920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EB19A-EA1A-4078-83DD-BDA848AC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FF9304-C868-4A55-874B-467DA0E36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B4CD6-739A-4B33-8176-B7F5FC8A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770B9-1B18-4170-B96D-66611816C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395280" y="1412640"/>
            <a:ext cx="8221680" cy="52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0D003-01C0-4B9F-9DE6-5962574BF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BB481-0414-4734-85E0-6F129F8E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3342CE-C50C-43DA-82F7-C7D5E4F95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0D8BE-E22F-4F25-9C5B-F83ADBE09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813C50-0EE3-414D-BB6C-099ADD45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553640" y="455796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B8F63-5F77-4707-8052-59B603A0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16008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862960" y="285228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5684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16008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5862960" y="4557960"/>
            <a:ext cx="25740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10492-BE9A-475F-A44C-1916C1009F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3640" y="2852280"/>
            <a:ext cx="39013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557960"/>
            <a:ext cx="799452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3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8673BD-CF92-4FD1-AC93-F0D57328C118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3"/>
          <a:stretch/>
        </p:blipFill>
        <p:spPr>
          <a:xfrm>
            <a:off x="0" y="189000"/>
            <a:ext cx="990720" cy="1231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"/>
          <p:cNvPicPr/>
          <p:nvPr/>
        </p:nvPicPr>
        <p:blipFill>
          <a:blip r:embed="rId4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5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4" descr=""/>
          <p:cNvPicPr/>
          <p:nvPr/>
        </p:nvPicPr>
        <p:blipFill>
          <a:blip r:embed="rId6"/>
          <a:stretch/>
        </p:blipFill>
        <p:spPr>
          <a:xfrm>
            <a:off x="52560" y="189000"/>
            <a:ext cx="990360" cy="1231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"/>
          <p:cNvPicPr/>
          <p:nvPr/>
        </p:nvPicPr>
        <p:blipFill>
          <a:blip r:embed="rId7"/>
          <a:stretch/>
        </p:blipFill>
        <p:spPr>
          <a:xfrm>
            <a:off x="7308720" y="6453360"/>
            <a:ext cx="1613160" cy="215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/>
          <p:cNvPicPr/>
          <p:nvPr/>
        </p:nvPicPr>
        <p:blipFill>
          <a:blip r:embed="rId8"/>
          <a:stretch/>
        </p:blipFill>
        <p:spPr>
          <a:xfrm>
            <a:off x="1042920" y="189000"/>
            <a:ext cx="8029800" cy="79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141264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6840" y="2852280"/>
            <a:ext cx="7994520" cy="32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7480" indent="-267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25800" cy="4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EFB1C-4B60-49B8-9BF2-ADF91D09175A}" type="datetime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dt" idx="3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90B8F-B6A8-452F-B378-541003EF1F15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ldNum" idx="4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5D86C0-2E77-46CC-A6C9-03BCF8F18C38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041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1143000" y="731520"/>
            <a:ext cx="6392880" cy="34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25800" indent="-3258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0" y="3867120"/>
            <a:ext cx="9144000" cy="29908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990880"/>
              <a:gd name="textAreaBottom" fmla="*/ 2991240 h 2990880"/>
            </a:gdLst>
            <a:ahLst/>
            <a:rect l="textAreaLeft" t="textAreaTop" r="textAreaRight" b="textAreaBottom"/>
            <a:pathLst>
              <a:path w="9144000" h="2990850">
                <a:moveTo>
                  <a:pt x="0" y="0"/>
                </a:moveTo>
                <a:lnTo>
                  <a:pt x="25400" y="0"/>
                </a:lnTo>
                <a:lnTo>
                  <a:pt x="25400" y="8309"/>
                </a:lnTo>
                <a:lnTo>
                  <a:pt x="0" y="830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7254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0" y="0"/>
            <a:ext cx="9144000" cy="38671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3867120"/>
              <a:gd name="textAreaBottom" fmla="*/ 3867480 h 3867120"/>
            </a:gdLst>
            <a:ahLst/>
            <a:rect l="textAreaLeft" t="textAreaTop" r="textAreaRight" b="textAreaBottom"/>
            <a:pathLst>
              <a:path w="9144000" h="3867150">
                <a:moveTo>
                  <a:pt x="0" y="0"/>
                </a:moveTo>
                <a:lnTo>
                  <a:pt x="25400" y="0"/>
                </a:lnTo>
                <a:lnTo>
                  <a:pt x="25400" y="10741"/>
                </a:lnTo>
                <a:lnTo>
                  <a:pt x="0" y="10741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5294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0" y="2652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33640" y="2172960"/>
            <a:ext cx="5958000" cy="24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2022120" y="4606560"/>
            <a:ext cx="596268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1000"/>
          </a:bodyPr>
          <a:p>
            <a:pPr marL="7200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72000" indent="-72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5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52A77-FAF0-4E08-8DD9-497A385686D6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01284-A934-4A91-8339-A8CBBDC87A59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2FCEC1-A72E-4352-BC6A-B3D54D87DC84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6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ldNum" idx="8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A0F5A-AA82-493E-9274-3680BDF96F36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1680" cy="11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041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dt" idx="9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48635F-FF0C-4C6F-BE16-2B9AC4F7EEB2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10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8D6A1A-59D7-4FDC-8740-3735F8DF4AC2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1680" cy="39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b4"/>
            </a:gs>
            <a:gs pos="100000">
              <a:srgbClr val="fff46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1"/>
          <p:cNvSpPr/>
          <p:nvPr/>
        </p:nvSpPr>
        <p:spPr>
          <a:xfrm>
            <a:off x="0" y="5105520"/>
            <a:ext cx="9144000" cy="175248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9144000" h="1752600">
                <a:moveTo>
                  <a:pt x="0" y="0"/>
                </a:moveTo>
                <a:lnTo>
                  <a:pt x="25400" y="0"/>
                </a:lnTo>
                <a:lnTo>
                  <a:pt x="25400" y="4868"/>
                </a:lnTo>
                <a:lnTo>
                  <a:pt x="0" y="486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6078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2"/>
          <p:cNvSpPr/>
          <p:nvPr/>
        </p:nvSpPr>
        <p:spPr>
          <a:xfrm>
            <a:off x="0" y="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0"/>
                </a:moveTo>
                <a:lnTo>
                  <a:pt x="25400" y="0"/>
                </a:lnTo>
                <a:lnTo>
                  <a:pt x="25400" y="14182"/>
                </a:lnTo>
                <a:lnTo>
                  <a:pt x="0" y="14182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94117"/>
                </a:srgbClr>
              </a:gs>
              <a:gs pos="100000">
                <a:srgbClr val="fefac9">
                  <a:alpha val="8000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3"/>
          <p:cNvSpPr/>
          <p:nvPr/>
        </p:nvSpPr>
        <p:spPr>
          <a:xfrm>
            <a:off x="0" y="3768840"/>
            <a:ext cx="9144000" cy="2286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9144000" h="2286000">
                <a:moveTo>
                  <a:pt x="0" y="0"/>
                </a:moveTo>
                <a:lnTo>
                  <a:pt x="25400" y="0"/>
                </a:lnTo>
                <a:lnTo>
                  <a:pt x="25400" y="6350"/>
                </a:lnTo>
                <a:lnTo>
                  <a:pt x="0" y="635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efac9">
                  <a:alpha val="6000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AutoShape 4"/>
          <p:cNvSpPr/>
          <p:nvPr/>
        </p:nvSpPr>
        <p:spPr>
          <a:xfrm>
            <a:off x="0" y="1600200"/>
            <a:ext cx="9144000" cy="510552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5105520"/>
              <a:gd name="textAreaBottom" fmla="*/ 5105880 h 5105520"/>
            </a:gdLst>
            <a:ahLst/>
            <a:rect l="textAreaLeft" t="textAreaTop" r="textAreaRight" b="textAreaBottom"/>
            <a:pathLst>
              <a:path w="9144000" h="5105400">
                <a:moveTo>
                  <a:pt x="0" y="7091"/>
                </a:moveTo>
                <a:lnTo>
                  <a:pt x="12700" y="7091"/>
                </a:lnTo>
                <a:lnTo>
                  <a:pt x="180" y="90"/>
                </a:lnTo>
                <a:lnTo>
                  <a:pt x="12700" y="7091"/>
                </a:lnTo>
                <a:lnTo>
                  <a:pt x="270" y="90"/>
                </a:lnTo>
                <a:lnTo>
                  <a:pt x="0" y="709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1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marL="343080" indent="0">
              <a:lnSpc>
                <a:spcPct val="10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343080" indent="-3430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1"/>
          </p:nvPr>
        </p:nvSpPr>
        <p:spPr>
          <a:xfrm>
            <a:off x="6171840" y="6172200"/>
            <a:ext cx="25066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1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9AB08-805F-4465-A1A3-5987B43BFE4A}" type="datetime">
              <a:rPr b="1" lang="ru-RU" sz="1100" spc="-1" strike="noStrike">
                <a:solidFill>
                  <a:srgbClr val="808080"/>
                </a:solidFill>
                <a:latin typeface="Trebuchet MS"/>
                <a:ea typeface="Segoe UI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45720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088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ru-RU" sz="1200" spc="-1" strike="noStrike">
                <a:solidFill>
                  <a:srgbClr val="808080"/>
                </a:solidFill>
                <a:latin typeface="Trebuchet MS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D1383F-5EE3-4651-9227-BB921657FF4C}" type="slidenum">
              <a:rPr b="1" lang="ru-RU" sz="1200" spc="-1" strike="noStrike">
                <a:solidFill>
                  <a:srgbClr val="808080"/>
                </a:solidFill>
                <a:latin typeface="Trebuchet MS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26920" y="2133360"/>
            <a:ext cx="77724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 подходах к разработке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всероссийских проверочных работ 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о пяти предметам </a:t>
            </a:r>
            <a:br>
              <a:rPr sz="3200"/>
            </a:br>
            <a:r>
              <a:rPr b="1" lang="ru-RU" sz="32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для обучающихся 11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2484360" y="566064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Демидова М.Ю., руководитель Центра педагогических измерений ФГБНУ «ФИП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значимые элементы содерж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2" descr=""/>
          <p:cNvPicPr/>
          <p:nvPr/>
        </p:nvPicPr>
        <p:blipFill>
          <a:blip r:embed="rId1"/>
          <a:stretch/>
        </p:blipFill>
        <p:spPr>
          <a:xfrm>
            <a:off x="2536920" y="5084640"/>
            <a:ext cx="4535280" cy="152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1" name="Picture 3" descr=""/>
          <p:cNvPicPr/>
          <p:nvPr/>
        </p:nvPicPr>
        <p:blipFill>
          <a:blip r:embed="rId2"/>
          <a:stretch/>
        </p:blipFill>
        <p:spPr>
          <a:xfrm>
            <a:off x="324000" y="1563840"/>
            <a:ext cx="4446360" cy="2657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2" name="Picture 5" descr=""/>
          <p:cNvPicPr/>
          <p:nvPr/>
        </p:nvPicPr>
        <p:blipFill>
          <a:blip r:embed="rId3"/>
          <a:stretch/>
        </p:blipFill>
        <p:spPr>
          <a:xfrm>
            <a:off x="4211640" y="3111480"/>
            <a:ext cx="4481640" cy="1801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71280" y="128160"/>
            <a:ext cx="7861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тоды научного позн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1"/>
          <a:stretch/>
        </p:blipFill>
        <p:spPr>
          <a:xfrm>
            <a:off x="5003640" y="1273320"/>
            <a:ext cx="3961080" cy="5387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5" name="Picture 3" descr=""/>
          <p:cNvPicPr/>
          <p:nvPr/>
        </p:nvPicPr>
        <p:blipFill>
          <a:blip r:embed="rId2"/>
          <a:stretch/>
        </p:blipFill>
        <p:spPr>
          <a:xfrm>
            <a:off x="324000" y="4659480"/>
            <a:ext cx="4432320" cy="200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6" name="Прямоугольник 2"/>
          <p:cNvSpPr/>
          <p:nvPr/>
        </p:nvSpPr>
        <p:spPr>
          <a:xfrm>
            <a:off x="466560" y="1557360"/>
            <a:ext cx="45720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Понимание фундаментальных опыт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Самостоятельное планирование исследован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пользование контекста.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2" descr=""/>
          <p:cNvPicPr/>
          <p:nvPr/>
        </p:nvPicPr>
        <p:blipFill>
          <a:blip r:embed="rId1"/>
          <a:stretch/>
        </p:blipFill>
        <p:spPr>
          <a:xfrm>
            <a:off x="250920" y="1557360"/>
            <a:ext cx="4559040" cy="46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4481640" y="2897280"/>
            <a:ext cx="4576680" cy="722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0" name="Picture 4" descr=""/>
          <p:cNvPicPr/>
          <p:nvPr/>
        </p:nvPicPr>
        <p:blipFill>
          <a:blip r:embed="rId3"/>
          <a:stretch/>
        </p:blipFill>
        <p:spPr>
          <a:xfrm>
            <a:off x="4500720" y="3943440"/>
            <a:ext cx="4557600" cy="2225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Биолог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6800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контролируют степень овладения знаниями и умениями базового курса биологии и проверяют сформированность у выпускников практико-ориентированной биологической компетент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Разделы курса биологии: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«Биология как наука. Методы научного познания», «Клетка», «Организм», «Вид», «Экосистемы», «Организм человека и его здоровье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оверка групп умений: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своение понятийного аппарата курса би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методологическими умениям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именение знаний при объяснении биологических процессов, явлений, а также решении элементарных биологических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умениями по работе с информацией биологического содерж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500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иболее значимые элементы содержания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3348000" y="3906720"/>
            <a:ext cx="5602320" cy="2760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179280" y="1457280"/>
            <a:ext cx="5343480" cy="23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50096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актико-ориентированное содержание заданий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2" descr=""/>
          <p:cNvPicPr/>
          <p:nvPr/>
        </p:nvPicPr>
        <p:blipFill>
          <a:blip r:embed="rId1"/>
          <a:stretch/>
        </p:blipFill>
        <p:spPr>
          <a:xfrm>
            <a:off x="4788000" y="1550880"/>
            <a:ext cx="4130640" cy="5148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68" name="Picture 3" descr=""/>
          <p:cNvPicPr/>
          <p:nvPr/>
        </p:nvPicPr>
        <p:blipFill>
          <a:blip r:embed="rId2"/>
          <a:stretch/>
        </p:blipFill>
        <p:spPr>
          <a:xfrm>
            <a:off x="331920" y="3651120"/>
            <a:ext cx="4294080" cy="3014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Хи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68000" y="1700280"/>
            <a:ext cx="799452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ключены задания по содержательным блокам: «Теоретические основы химии», «Неорганическая химия», «Органическая химия», «Методы познания в хими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с кратким ответом проверяют на базовом уровне усвоение большинства элементов содержания, изучаемых в рамках основных тем курса химии 10-11 кла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адания с развернутым ответом проверяют у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ставлять уравнения реакций, подтверждающих свойства веществ и/или взаимосвязь различных классов вещест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бъяснять обусловленность свойств и способов получения веществ их составом и строением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ычислять массу или объем веществ, участвующих в реа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еограф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68360" y="1484280"/>
            <a:ext cx="82072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71760" indent="-335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: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Источники географической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Мировое хозяй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иродопользование и геоэколо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Регионы и страны ми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География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1760" indent="-33552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 работе проверяе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знание географических явлений и процессов в геосферах и географических особенностей природы населения и хозяйства отдельных территор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анализировать географическую информацию, представленную в различных формах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63800" indent="-27972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пособность применять полученные в школе географические знания для объяснения различных событий и явлений в повседневной жиз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71760" indent="-3355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бликация доку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68000" y="1484280"/>
            <a:ext cx="79945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убликация документов</a:t>
            </a: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, регламентирующих разработку ВПР-11 по пяти предмета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писания всероссийских провероч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Кодификаторы проверяемых элементов содержания и требований к уровню подготовки выпуск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бразцы всероссийских проверочных раб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r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конец ноября 2016 года, сайт ФГБНУ «ФИП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r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4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 ВПР не требует организации специальной подготовк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Text Box 1"/>
          <p:cNvSpPr/>
          <p:nvPr/>
        </p:nvSpPr>
        <p:spPr>
          <a:xfrm>
            <a:off x="380880" y="3886200"/>
            <a:ext cx="8534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"/>
          <p:cNvSpPr/>
          <p:nvPr/>
        </p:nvSpPr>
        <p:spPr>
          <a:xfrm>
            <a:off x="826920" y="2637000"/>
            <a:ext cx="7604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200" spc="-1" strike="noStrike">
                <a:solidFill>
                  <a:srgbClr val="1e4649"/>
                </a:solidFill>
                <a:latin typeface="Garamond"/>
              </a:rPr>
              <a:t>СПАСИБО ЗА ВНИМАНИ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18920" y="7560"/>
            <a:ext cx="6767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ПР-11 в 2017 го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539640" y="1484280"/>
            <a:ext cx="81378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Распоряжение Рособрнадзора №2322-05 от 30.08.201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«Об утверждении графиков проведения мероприятий, направленных на исследование качества образования на 2016-2017 годы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График проведения всероссийских проверочных работ в 11 класса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00664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1476360" y="3789360"/>
          <a:ext cx="6095880" cy="222408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Предмет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664d"/>
                          </a:solidFill>
                          <a:latin typeface="Arial"/>
                        </a:rPr>
                        <a:t>Дата проведен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изик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апрел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мия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апрел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олог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 ма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ограф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мая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1faf6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стори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мая  2017 г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2f4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цедура подготовки вариантов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Разработка проекта кодификатора, описания всероссийской проверочной работы по предмету и образца вариан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Обсуждение в фокус-групп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Обсуждение в профессиональном сообществе, экспертиза документов, регламентирующих разработку ВПР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Публикация описаний, кодификаторов и образцов вариант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200" spc="-1" strike="noStrike">
                <a:solidFill>
                  <a:srgbClr val="00664d"/>
                </a:solidFill>
                <a:latin typeface="Arial"/>
              </a:rPr>
              <a:t>Разработка вариантов ВПР по 5 предметам, проведение содержательных и тестологических экспертиз. Подготовка оригинал-маке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подходы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разработке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1. Назначение ВП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ВПР-11 предназначена для итоговой оценки учебной подготовки выпускников, изучавших школьный курс данного предмета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на базовом уровне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2. Документ, определяющий содержание ВП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Федеральный компонент государственного образовательного стандарта среднего (полного) общего образования по предмету, базовый уровень (приказ Минобразования России от 05.03.2004 № 1089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3. Время выполнения работы – 90 мин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17928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763280" y="333000"/>
            <a:ext cx="685332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подходы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 разработке ВПР-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6840" y="1773000"/>
            <a:ext cx="7994520" cy="43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4. Уровни сложности зада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базовый уровень  (порядка 60% от максимального балл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овышенный уровень (порядка 40% от максимального балл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5. Формы заданий – с кратким и развернутым ответом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(используются модели, не предназначенные для бланковой технологии). Использование контекстных заданий и дополнительных справочных 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6.  Содержание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– наиболее значимые элементы содержания всех разделов предметного кур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  </a:t>
            </a: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7. Количество заданий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– до 20 заданий в вариан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433440" algn="just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27000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68000" y="1412640"/>
            <a:ext cx="79945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Проверка групп ум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владение школьниками базовыми историческими знаниям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опыт применения историко-культурного подхода к оценке социальных явл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применять исторические знания для осмысления сущности общественных явлений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умение искать, анализировать, сопоставлять и оценивать содержащуюся в различных источниках информацию о событиях и явлениях прошлого</a:t>
            </a:r>
            <a:r>
              <a:rPr b="0" lang="ru-RU" sz="16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Times New Roman"/>
                <a:ea typeface="Times New Roman"/>
              </a:rPr>
              <a:t>Содержание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15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</a:rPr>
              <a:t>история России с древнейших времён до наших дней и истории родного края. </a:t>
            </a: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Calibri"/>
              </a:rPr>
              <a:t>(Знания по всеобщей истории проверяются в работе только в контексте истории Росс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285480" algn="just">
              <a:lnSpc>
                <a:spcPct val="100000"/>
              </a:lnSpc>
              <a:buClr>
                <a:srgbClr val="000000"/>
              </a:buClr>
              <a:buFont typeface="Courier New"/>
              <a:buChar char="o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Times New Roman"/>
                <a:ea typeface="Calibri"/>
              </a:rPr>
              <a:t>знание учащимися истории, культуры родн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85800" indent="-3427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стория и культура родного края.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2" descr=""/>
          <p:cNvPicPr/>
          <p:nvPr/>
        </p:nvPicPr>
        <p:blipFill>
          <a:blip r:embed="rId1"/>
          <a:stretch/>
        </p:blipFill>
        <p:spPr>
          <a:xfrm>
            <a:off x="1979640" y="1413000"/>
            <a:ext cx="5472000" cy="5330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258920" y="259920"/>
            <a:ext cx="75024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тивность заданий. Примеры зад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6875280" cy="545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32000" y="333000"/>
            <a:ext cx="721368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з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68000" y="1483920"/>
            <a:ext cx="7994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Пять групп  заданий, оценивающих ум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Понимать смысл изученных физических понятий, величин, законов, мод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Описывать и объяснять физические явления и свойства т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Объяснять устройство и принцип действия технических объек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Делать выводы на основе экспериментальных данных, планировать исслед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Воспринимать и оценивать информацию физического содержания (работа с текст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0664d"/>
                </a:solidFill>
                <a:latin typeface="Arial"/>
              </a:rPr>
              <a:t>Содержан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664d"/>
                </a:solidFill>
                <a:latin typeface="Arial"/>
              </a:rPr>
              <a:t>Проверка фундаментальных принципов и законов, наиболее значимых элементов содержания из всех разделов курса физ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14:40:30Z</dcterms:created>
  <dc:creator>user</dc:creator>
  <dc:description/>
  <dc:language>en-US</dc:language>
  <cp:lastModifiedBy>марина</cp:lastModifiedBy>
  <dcterms:modified xsi:type="dcterms:W3CDTF">2016-10-28T05:16:37Z</dcterms:modified>
  <cp:revision>527</cp:revision>
  <dc:subject/>
  <dc:title>Презентация PowerPoint</dc:title>
</cp:coreProperties>
</file>